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740-2199-4CE7-A22F-50972510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965-BC42-463F-9DAA-0EBB861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6CB-6321-406C-A8E6-7FCA34CB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D7B-9F13-4C05-9E4F-06AE4228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AE34-18D9-41C5-84DD-4DDDD9DB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1F84-2941-43CD-977B-EA4BC90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CADF-CE74-46FF-AA0E-4B50928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BBB6-FAD8-4946-BF92-94D98869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F84-41A8-4D8B-856B-A8EE59C0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41FB-2F66-4872-AFFF-51C917EE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169D-E805-4919-A40E-DACC080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BB9-7CBF-47C2-AB71-6FE1BD8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973-4B3B-4305-91B0-CF3000EC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0949-E5D7-4D7E-B111-A529F9C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D026-5A97-4541-A54E-B7FF949E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5F45-3022-467D-B5F9-938C2F2A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5F5E-1B66-4D96-86CB-9387C79E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512-B6E1-4BC8-99FF-0ECE439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F8E-3F3D-4B2F-A40A-78431975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D23-0646-45EE-B3FD-BB9D00A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581-8D1B-491A-8B48-57C2787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373-24B6-43EC-99B8-F3AE1DE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2D0-807B-4956-B2BC-AB3BCEF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888-91E2-4FB7-99D1-B74D278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0E8-0F72-4F9A-B836-CDD07FF093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5E6D-0F45-4721-91B0-641A3E0112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-609480" y="-41400"/>
            <a:ext cx="10362960" cy="689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bandera2"/>
          <p:cNvPicPr/>
          <p:nvPr/>
        </p:nvPicPr>
        <p:blipFill>
          <a:blip r:embed="rId2"/>
          <a:stretch/>
        </p:blipFill>
        <p:spPr>
          <a:xfrm>
            <a:off x="2666880" y="4114800"/>
            <a:ext cx="3810240" cy="260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República Dominicana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930 - 196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The Era of Truji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República Dominica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fore Truj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492) Colony of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795) Colony of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1) Haitian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09) First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14) Colony of Spa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1) Rebe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22) Haitian Contr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44) Rebellion &amp; In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61) Spanish Provi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870) Treaty with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16) Dictatorship Ulises Heureau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924) Dictatorship Horacio Vásq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94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fael Leonidas Trujillo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is You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486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rn in 1891 in San Cristobal, Dominican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umble 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ary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16, worked as telegraph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 the end 1916, employed in a sugar refin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1918, Joins the  National Gu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aises ranks very quickly, unti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trujillojoven"/>
          <p:cNvPicPr/>
          <p:nvPr/>
        </p:nvPicPr>
        <p:blipFill>
          <a:blip r:embed="rId1"/>
          <a:stretch/>
        </p:blipFill>
        <p:spPr>
          <a:xfrm>
            <a:off x="45720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ujillo Takes Military Contro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n 1928, Trujillo becomes the head of “La Policía Nacional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Along with Rafael Estrella Ureña, leads the revolution of Santiago against Horacio Vásquez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Later, with the help from the US, he takes control and becomes”Presidente de la República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trujillo3"/>
          <p:cNvPicPr/>
          <p:nvPr/>
        </p:nvPicPr>
        <p:blipFill>
          <a:blip r:embed="rId1"/>
          <a:stretch/>
        </p:blipFill>
        <p:spPr>
          <a:xfrm>
            <a:off x="5943600" y="2057400"/>
            <a:ext cx="2581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Regime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akes control of the country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 (economy, politics,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Gets rid of his enemies by sending them to prison &amp; torturing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  <a:ea typeface="Arial"/>
              </a:rPr>
              <a:t>Examples of tor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- electric shocks, water drips, 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sillaelectrica"/>
          <p:cNvPicPr/>
          <p:nvPr/>
        </p:nvPicPr>
        <p:blipFill>
          <a:blip r:embed="rId1"/>
          <a:stretch/>
        </p:blipFill>
        <p:spPr>
          <a:xfrm>
            <a:off x="533520" y="1905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s Hermanas Mirab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n el tiempo de las mariposa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rujillo falls in love with Minerva, imprisons her husband Manolo Tavare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he becomes involved in the revolutionary movement , </a:t>
            </a:r>
            <a:r>
              <a:rPr b="1" i="1" lang="en-US" sz="2500" spc="-1" strike="noStrike">
                <a:solidFill>
                  <a:srgbClr val="ffffff"/>
                </a:solidFill>
                <a:latin typeface="Tahoma"/>
              </a:rPr>
              <a:t>14 de jun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urdered at the end of 1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mirabal2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 revolució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revolution began with the slow fall of the dictatorsh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US government contacted a group of rebels to help assassinate Trujill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he assassination occurred on May 30, 196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834080" y="2585880"/>
            <a:ext cx="3705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Legacy of Rafael L. Truji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lthough it was a violent regime, Trujillo’s Era was a moment of incredible prosperity for the Dominican econom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fter his assassination, Democracy was reach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Joaquín Balagu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escudo"/>
          <p:cNvPicPr/>
          <p:nvPr/>
        </p:nvPicPr>
        <p:blipFill>
          <a:blip r:embed="rId1"/>
          <a:stretch/>
        </p:blipFill>
        <p:spPr>
          <a:xfrm>
            <a:off x="6400800" y="2362320"/>
            <a:ext cx="224964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Luis Perez -  Compadre Pedro Juan.mp3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18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9:34:35Z</dcterms:created>
  <dc:creator>Mechanical Engineering</dc:creator>
  <dc:description/>
  <dc:language>en-US</dc:language>
  <cp:lastModifiedBy>Helen Zumaeta</cp:lastModifiedBy>
  <cp:lastPrinted>2015-02-02T18:43:41Z</cp:lastPrinted>
  <dcterms:modified xsi:type="dcterms:W3CDTF">2015-02-03T13:41:40Z</dcterms:modified>
  <cp:revision>34</cp:revision>
  <dc:subject/>
  <dc:title>Republica Dominicana 1930 - 1961</dc:title>
</cp:coreProperties>
</file>